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F578-E344-4804-B775-AE7BFA32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79B7-FE8A-4E32-AAFD-0CE01425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B9A3-7083-426E-8744-33C5B07C0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AB05-3232-48FC-87AC-6B10F731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BA38-D9D6-4F04-9FDB-B268D158F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D0DC-F98C-4420-A538-459D5924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FE25-D123-4184-B31A-7FC3E5F8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0DFD-ADD9-4B29-AC87-E5D68F81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38B5-1AB9-4FCC-BFB6-2AD69BA5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AE9F-7F49-4A63-96CD-37919C91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72B4-DC7B-4F05-BD40-ED36CE9F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A76E-10B2-4FB6-96F4-EABB4CA9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B5ED-1D76-46D0-9FA7-22E5479C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D418-D873-439B-9B54-FF56E451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D4C2-C59B-4B1F-96D0-EF0076B5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DD6F-1FC0-4793-A261-DB5798DC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9347-8FED-4F4D-95CE-9C411DEFD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5D0F-8AB2-4D76-870B-6DF406F1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0B92-46DE-4481-A40B-26B97A2E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75D6-A9BF-4156-ACC3-9F58EF18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D1B0-007F-4F34-853E-D456E8AA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E249-1BE0-475E-8D9A-1D99BC5F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CDC4-5E71-438B-A7E0-8334825F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5E97-6929-41D3-8AB6-F9EC53F3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429B-7E98-4B82-B22B-0E786E81B0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BF87-414D-4B14-87B7-D8D1C3FA29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Event_(probability_theory)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eal_number" TargetMode="External"/><Relationship Id="rId2" Type="http://schemas.openxmlformats.org/officeDocument/2006/relationships/slide" Target=""/><Relationship Id="rId3" Type="http://schemas.openxmlformats.org/officeDocument/2006/relationships/hyperlink" Target="http://etc.usf.edu/clipart/41600/41669/-10-10x5_41669.htm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Eras Bold ITC"/>
              </a:rPr>
              <a:t>                    </a:t>
            </a:r>
            <a:r>
              <a:rPr b="1" lang="en-US" sz="4400" spc="-1" strike="noStrike">
                <a:solidFill>
                  <a:srgbClr val="d9d9ff"/>
                </a:solidFill>
                <a:latin typeface="Eras Bold ITC"/>
              </a:rPr>
              <a:t>Vocab.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11752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ff"/>
                </a:solidFill>
                <a:latin typeface="Eras Bold ITC"/>
              </a:rPr>
              <a:t>  </a:t>
            </a:r>
            <a:r>
              <a:rPr b="0" lang="en-US" sz="3200" spc="-1" strike="noStrike">
                <a:solidFill>
                  <a:srgbClr val="d9d9ff"/>
                </a:solidFill>
                <a:latin typeface="Eras Bold ITC"/>
              </a:rPr>
              <a:t>By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ff"/>
                </a:solidFill>
                <a:latin typeface="Eras Bold ITC"/>
              </a:rPr>
              <a:t>              </a:t>
            </a:r>
            <a:r>
              <a:rPr b="0" lang="en-US" sz="3200" spc="-1" strike="noStrike">
                <a:solidFill>
                  <a:srgbClr val="d9d9ff"/>
                </a:solidFill>
                <a:latin typeface="Eras Bold ITC"/>
              </a:rPr>
              <a:t>LaRonda El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ff"/>
                </a:solidFill>
                <a:latin typeface="Eras Bold ITC"/>
              </a:rPr>
              <a:t>                              </a:t>
            </a:r>
            <a:r>
              <a:rPr b="0" lang="en-US" sz="3200" spc="-1" strike="noStrike">
                <a:solidFill>
                  <a:srgbClr val="d9d9ff"/>
                </a:solidFill>
                <a:latin typeface="Eras Bold ITC"/>
              </a:rPr>
              <a:t>&amp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ff"/>
                </a:solidFill>
                <a:latin typeface="Eras Bold ITC"/>
              </a:rPr>
              <a:t>                     </a:t>
            </a:r>
            <a:r>
              <a:rPr b="0" lang="en-US" sz="3200" spc="-1" strike="noStrike">
                <a:solidFill>
                  <a:srgbClr val="d9d9ff"/>
                </a:solidFill>
                <a:latin typeface="Eras Bold ITC"/>
              </a:rPr>
              <a:t>Robert W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Eras Bold ITC"/>
              </a:rPr>
              <a:t>            </a:t>
            </a:r>
            <a:r>
              <a:rPr b="1" lang="en-US" sz="5400" spc="-1" strike="noStrike">
                <a:solidFill>
                  <a:srgbClr val="d9d9ff"/>
                </a:solidFill>
                <a:latin typeface="Eras Bold ITC"/>
              </a:rPr>
              <a:t>Fractions !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52280" y="2514600"/>
            <a:ext cx="8839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ff"/>
                </a:solidFill>
                <a:latin typeface="Eras Bold ITC"/>
              </a:rPr>
              <a:t>A fraction is a number that can represent part of a who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495680" y="3124080"/>
            <a:ext cx="1648080" cy="1791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447920" y="4343400"/>
            <a:ext cx="1787400" cy="1943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086600" y="4876920"/>
            <a:ext cx="16477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Eras Bold ITC"/>
              </a:rPr>
              <a:t>               </a:t>
            </a:r>
            <a:r>
              <a:rPr b="1" lang="en-US" sz="4400" spc="-1" strike="noStrike">
                <a:solidFill>
                  <a:srgbClr val="d9d9ff"/>
                </a:solidFill>
                <a:latin typeface="Eras Bold ITC"/>
              </a:rPr>
              <a:t>Probability !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ff"/>
                </a:solidFill>
                <a:latin typeface="Eras Bold ITC"/>
              </a:rPr>
              <a:t>is a way of expressing knowledge or belief that an </a:t>
            </a:r>
            <a:r>
              <a:rPr b="0" lang="en-US" sz="3200" spc="-1" strike="noStrike" u="sng">
                <a:solidFill>
                  <a:srgbClr val="99f3ff"/>
                </a:solidFill>
                <a:uFillTx/>
                <a:latin typeface="Eras Bold ITC"/>
                <a:hlinkClick r:id="rId1"/>
              </a:rPr>
              <a:t>event</a:t>
            </a:r>
            <a:r>
              <a:rPr b="0" lang="en-US" sz="3200" spc="-1" strike="noStrike" u="sng">
                <a:solidFill>
                  <a:srgbClr val="d9d9ff"/>
                </a:solidFill>
                <a:uFillTx/>
                <a:latin typeface="Eras Bold ITC"/>
              </a:rPr>
              <a:t> will occur or has occurred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1666800" cy="2057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038480" y="4724280"/>
            <a:ext cx="1481400" cy="1828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324480" y="3124080"/>
            <a:ext cx="19749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           </a:t>
            </a: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Number Lines !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ff"/>
                </a:solidFill>
                <a:latin typeface="Eras Bold ITC"/>
              </a:rPr>
              <a:t>is a picture of a straight line on which every point is assumed to correspond to a </a:t>
            </a:r>
            <a:r>
              <a:rPr b="0" lang="en-US" sz="3200" spc="-1" strike="noStrike" u="sng">
                <a:solidFill>
                  <a:srgbClr val="99f3ff"/>
                </a:solidFill>
                <a:uFillTx/>
                <a:latin typeface="Eras Bold ITC"/>
                <a:hlinkClick r:id="rId1"/>
              </a:rPr>
              <a:t>real number</a:t>
            </a:r>
            <a:r>
              <a:rPr b="0" lang="en-US" sz="3200" spc="-1" strike="noStrike" u="sng">
                <a:solidFill>
                  <a:srgbClr val="d9d9ff"/>
                </a:solidFill>
                <a:uFillTx/>
                <a:latin typeface="Eras Bold ITC"/>
              </a:rPr>
              <a:t> and every real number to a point.</a:t>
            </a:r>
            <a:r>
              <a:rPr b="0" lang="en-US" sz="3200" spc="-1" strike="noStrike" u="sng">
                <a:solidFill>
                  <a:srgbClr val="99f3ff"/>
                </a:solidFill>
                <a:uFillTx/>
                <a:latin typeface="Eras Bold ITC"/>
                <a:hlinkClick r:id="rId2" action="ppaction://hlinksldjump"/>
              </a:rPr>
              <a:t>[</a:t>
            </a:r>
            <a:r>
              <a:rPr b="0" lang="en-US" sz="3200" spc="-1" strike="noStrike" u="sng">
                <a:solidFill>
                  <a:srgbClr val="d9d9ff"/>
                </a:solidFill>
                <a:uFillTx/>
                <a:latin typeface="Eras Bold IT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86400" y="4114800"/>
            <a:ext cx="2066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4:05:01Z</dcterms:created>
  <dc:creator>laronda.elam</dc:creator>
  <dc:description/>
  <dc:language>en-US</dc:language>
  <cp:lastModifiedBy>laronda.elam</cp:lastModifiedBy>
  <dcterms:modified xsi:type="dcterms:W3CDTF">2010-11-23T14:26:32Z</dcterms:modified>
  <cp:revision>3</cp:revision>
  <dc:subject/>
  <dc:title>            Fractions !</dc:title>
</cp:coreProperties>
</file>